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43B6-A1D5-447B-8FDD-9AAD5C37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2492-FD74-45E5-BAE9-D80D4B6E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1330-5FFE-488B-A915-8FB737F5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97C6-BA2B-4F42-93B6-8DE40733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0533-0D36-4664-BFF9-61B4412B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A4C8-2C25-4851-A5AD-82224A75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527B-0E23-4FB0-ADE3-F950D03C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BF24-2812-48E4-9BF7-438EADE1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44DD-7D4C-4857-80E0-3DD76D96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1079-4122-4095-8CBC-3A73ACB2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C827-06A8-46D0-B404-77999D0D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CDE2-FEC5-490F-A30B-8ABE0139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*</a:t>
            </a:r>
            <a:endParaRPr b="1" lang="en-US" sz="1200" spc="-1" strike="noStrike">
              <a:solidFill>
                <a:srgbClr val="9e26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e26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*</a:t>
            </a:r>
            <a:endParaRPr b="1" lang="en-US" sz="1200" spc="-1" strike="noStrike">
              <a:solidFill>
                <a:srgbClr val="9e26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Users\carisssagao\Desktop\ppt红院门.jpg"/>
          <p:cNvPicPr/>
          <p:nvPr/>
        </p:nvPicPr>
        <p:blipFill>
          <a:blip r:embed="rId1"/>
          <a:stretch/>
        </p:blipFill>
        <p:spPr>
          <a:xfrm>
            <a:off x="0" y="-6480"/>
            <a:ext cx="9153360" cy="686448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2055"/>
          <p:cNvSpPr/>
          <p:nvPr/>
        </p:nvSpPr>
        <p:spPr>
          <a:xfrm>
            <a:off x="457200" y="2413080"/>
            <a:ext cx="848196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**</a:t>
            </a:r>
            <a:r>
              <a:rPr b="0" lang="zh-CN" sz="36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学院（系）</a:t>
            </a:r>
            <a:endParaRPr b="1" lang="en-US" sz="3600" spc="-1" strike="noStrike">
              <a:solidFill>
                <a:srgbClr val="9e26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2021</a:t>
            </a:r>
            <a:r>
              <a:rPr b="0" lang="zh-CN" sz="36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届硕士学位论文（作品）答辩</a:t>
            </a:r>
            <a:endParaRPr b="1" lang="en-US" sz="3600" spc="-1" strike="noStrike">
              <a:solidFill>
                <a:srgbClr val="9e26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e26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e26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*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院（系）</a:t>
            </a:r>
            <a:endParaRPr b="1" lang="en-US" sz="2800" spc="-1" strike="noStrike">
              <a:solidFill>
                <a:srgbClr val="9e26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零二一年五月</a:t>
            </a:r>
            <a:endParaRPr b="1" lang="en-US" sz="2800" spc="-1" strike="noStrike">
              <a:solidFill>
                <a:srgbClr val="9e2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5:11:54Z</dcterms:created>
  <dc:creator>busoni</dc:creator>
  <dc:description/>
  <dc:language>en-US</dc:language>
  <cp:lastModifiedBy>lh</cp:lastModifiedBy>
  <dcterms:modified xsi:type="dcterms:W3CDTF">2021-01-08T16:37:06Z</dcterms:modified>
  <cp:revision>1264</cp:revision>
  <dc:subject/>
  <dc:title>党建评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3.1.1.4956</vt:lpwstr>
  </property>
</Properties>
</file>